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25A77-EB24-4879-97A0-E62AC266B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694DA-C47F-460F-B7C1-8A0AA6B23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D9E49-3332-4B9B-A638-506A037B7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C4794-73FA-4F0E-8548-9F73011DB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1F102-12BB-469B-AFD4-1EF02EE53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40183-4A3B-40F2-BF20-D2561DF0D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4E553-B997-4E8C-B73E-24082B8F6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31E4B-23B7-4B51-AF89-574BE2981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37422-A217-4B6F-9CAF-D39609524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4F303-676A-40D0-BDAA-4268AC510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99863-AE02-4976-9210-C6DBEF835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5761F-69B9-4803-8F2A-8DFECE89D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64EB-D761-4EA8-A3CB-5D14E7F392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676520" y="4114800"/>
            <a:ext cx="716256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09680" y="1904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7" name="Picture 6" descr=""/>
          <p:cNvPicPr/>
          <p:nvPr/>
        </p:nvPicPr>
        <p:blipFill>
          <a:blip r:embed="rId1"/>
          <a:stretch/>
        </p:blipFill>
        <p:spPr>
          <a:xfrm>
            <a:off x="4952880" y="144792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s29</cp:lastModifiedBy>
  <dcterms:modified xsi:type="dcterms:W3CDTF">2004-10-28T01:35:48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